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EA80-ECDD-451B-8934-7C3174B64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B655-FE6F-429D-A39E-0E9C5767D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0CBD-5435-4539-AB0B-0C120D630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2503-7DA8-4A5C-B34C-4D33039E4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3058E-A198-4A35-A630-344AE7AE8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A0125-888B-4155-B83E-0221E4697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B3EB7-E6A6-426C-8B45-F2979C373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0D1FB-CABD-4E5D-BF79-002E069BB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3CDD3-3E49-4AB8-9ABF-91F5CFF5A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87EE1-FB0E-44CB-AB65-7E6FCF20C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9ED98-6513-4571-9616-69780EEC3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DB5A-4318-46F7-AFF8-D6B905364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337A0-36E8-42D7-91CA-E54A81986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0CE66-4699-4674-9F06-E0C4AEAF6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6FEE3-FB65-43A6-BBBF-B1D696A89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A5919-A631-4873-A306-6EFE70E69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FD0A9-8827-4F1E-9A40-2E896F466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316F-E19D-46C3-A08A-49BB664A4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C615-9523-4366-B614-C175E4869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C2EA-DE90-4002-BBD7-1DE189DC4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83B5-BB63-4182-97B3-0AD321F36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76F4-5A19-4693-A43F-C97D51AA3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B0FC-EACC-46D5-AD47-6E43BE759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65FF-1FE5-4CD8-8EA8-2A107DD9F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71A2B-ED2B-40CB-B431-F06D42C5681D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1DB86-F7F3-4713-8BD7-1E0374B49D88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982160" y="1066680"/>
            <a:ext cx="5495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Times New Roman"/>
              </a:rPr>
              <a:t>Lesson Nineteen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972880" y="2743200"/>
            <a:ext cx="3082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Times New Roman"/>
              </a:rPr>
              <a:t>Sold Out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362160" y="219240"/>
            <a:ext cx="89514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Question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1.Were you at a theatre or a cinema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. Did you think the play was soon going to begin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3.Who was with you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4. She thought thr play might have begun already, didn’t sh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5. What did you do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6. How mane tickets did you ask for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7. Did the girl at the ticket office have any left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8. What did she say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9. Was Susan disappoint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10. Who hurried to the ticket office just then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11. What did he want to return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12. Did the girl accept them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-14400" y="196920"/>
            <a:ext cx="91098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Tell the stor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play– begin—any moment’—sai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2. ‘may have begun’—Susa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3. Hurried—ticket office—’ticket?’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4. ‘sorry—sold out,’—gir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5. Just then–-hurried—ticket offi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6. ‘return—tickets’—asked. ‘certainly’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7. Back—at once. ‘Could—those two?’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8. “Certaily’—’next Wednesday’s—wa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them?’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9. ‘might as well’--sadl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72600" y="73080"/>
            <a:ext cx="87274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Key to summary writ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The play was going to begin at any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moment.I Asked for two tickets. There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were none left. Susan and I were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disappointed. Just then, a man hurried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to the ticket office. He returned two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tickets. They were for next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Wednesday’s performance. I bought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them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677520" y="295200"/>
            <a:ext cx="51166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Word stud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Sell out (=sell completely)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售空，卖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Sth be sold out,  sell out s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这本新书卖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二手唱片都已卖完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我们卖完了所有的报纸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93640" y="1971720"/>
            <a:ext cx="39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This new book is sold ou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70320" y="2886120"/>
            <a:ext cx="567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The second- hand records are sold ou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46640" y="3952800"/>
            <a:ext cx="4650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We sold out all the news pap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35960" y="4334040"/>
            <a:ext cx="84391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May/might as well“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还是…的确好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不妨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你还是跟我一起走的好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 No one will eat this food; ___________________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还是把它扔掉的好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71760" y="5172120"/>
            <a:ext cx="460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You may/might come with 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480560" y="5629320"/>
            <a:ext cx="4632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It may/might be as well throw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aw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8T01:08:28Z</dcterms:created>
  <dc:creator/>
  <dc:description/>
  <dc:language>en-US</dc:language>
  <cp:lastModifiedBy>st</cp:lastModifiedBy>
  <dcterms:modified xsi:type="dcterms:W3CDTF">2002-07-10T01:22:21Z</dcterms:modified>
  <cp:revision>2</cp:revision>
  <dc:subject/>
  <dc:title>PowerPoint 演示文稿</dc:title>
</cp:coreProperties>
</file>